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87703"/>
        <c:axId val="71933051"/>
      </c:barChart>
      <c:catAx>
        <c:axId val="59787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3051"/>
        <c:crosses val="autoZero"/>
        <c:auto val="1"/>
        <c:lblAlgn val="ctr"/>
        <c:lblOffset val="100"/>
        <c:noMultiLvlLbl val="0"/>
      </c:catAx>
      <c:valAx>
        <c:axId val="71933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87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A1B-882C-423A-BD85-DC45CCEE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3C7-9FBB-4893-9704-F5D9EB6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17F-38A1-41C5-AA6F-6D055F24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465-419E-43EA-9CC3-198DA4F8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0AD-98E7-4929-80E0-2ACCA20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405-FA33-4D5C-81DB-DA649FAD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DFC-03A2-4897-9951-234FCAB0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188-3622-4EC5-A954-5CFCA76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CB1-67E7-478F-80B6-DBC073C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8C1-A336-4A12-90DD-3C5964D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58E-4449-47C5-9B93-7BF20E1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94C-C741-4A57-AEEB-C0A556D3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D2A0D-FF7D-4ACA-AF01-E72F2E66E1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