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75071"/>
        <c:axId val="50840438"/>
      </c:barChart>
      <c:catAx>
        <c:axId val="70275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40438"/>
        <c:crosses val="autoZero"/>
        <c:auto val="1"/>
        <c:lblAlgn val="ctr"/>
        <c:lblOffset val="100"/>
        <c:noMultiLvlLbl val="0"/>
      </c:catAx>
      <c:valAx>
        <c:axId val="50840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75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11A-4C33-4065-8B94-F4E07262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ACA-0887-4278-BE64-B0E5C841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901-E312-4A56-AC9F-6FB99BAC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3CB-36DE-4889-810E-4B43A4DD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999-50C9-4BB4-B34E-6DAB3B10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ACE-B858-41D8-A904-DCB8EEF2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5A4-F994-436D-A917-0183DB43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561-46E5-4DD6-8406-BDFE6CA2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C33-50D0-4A51-A9C9-53A145E4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A27-C68F-4C54-98DA-A2B62516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64F-8285-4412-AD7D-DF6DF91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448-00E3-4F07-848A-D7E77313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11DF2-D901-4480-A07A-68F5262C2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