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54637"/>
        <c:axId val="17679601"/>
      </c:barChart>
      <c:catAx>
        <c:axId val="71254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79601"/>
        <c:crosses val="autoZero"/>
        <c:auto val="1"/>
        <c:lblAlgn val="ctr"/>
        <c:lblOffset val="100"/>
        <c:noMultiLvlLbl val="0"/>
      </c:catAx>
      <c:valAx>
        <c:axId val="17679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54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9CD-8B68-4EF4-B8A1-C21A53A9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C73-E5C8-421A-AFD0-EC65F574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FC4-4A13-4A8D-9726-A16E5E7D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8B7-A035-4323-B8E7-E7895356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C7E-AC53-49D2-9082-3CFCB49E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9B8-5C10-4C9B-8C9F-74ECC66F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E9E-2346-4B9A-876E-74AA89FF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B46-94DC-41B1-BD6D-8F812C3E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670-B648-4A30-B449-ECA4E548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D2B-B642-4903-8966-75D36C41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2DC-E2F3-4CB7-BFE4-AEB307C2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FA4-0296-48D8-B229-FDBD341C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0238C-CBA2-4193-AE5D-0E46347901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