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2790"/>
        <c:axId val="29238318"/>
      </c:barChart>
      <c:catAx>
        <c:axId val="13127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38318"/>
        <c:crosses val="autoZero"/>
        <c:auto val="1"/>
        <c:lblAlgn val="ctr"/>
        <c:lblOffset val="100"/>
        <c:noMultiLvlLbl val="0"/>
      </c:catAx>
      <c:valAx>
        <c:axId val="29238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27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5E2-B548-4FAC-9DCF-E6EE28EF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F85-F500-419F-8C3C-D3E226D6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4D5-B3F5-4AEF-BFEA-19825922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62D-0AF5-44E0-980B-9A6D328F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9CA-9D11-4BDB-97C2-EF635729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9D4-D331-4F76-9953-60309136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E3D-0FA1-4D1F-BAE9-CEC88CF3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74CA-CDDA-4B28-8006-ED0E927A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2C6-D5FF-465B-A6D1-DFC4C034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2AD-A4B9-4F16-8CFD-4FF91B63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60C-64CD-4CE4-9E71-9926F9DD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415-BD9C-483B-8B41-6E6DD77D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303CF-A5A5-40B0-96E0-5A0F8014D6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