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0828"/>
        <c:axId val="46444457"/>
      </c:barChart>
      <c:catAx>
        <c:axId val="3020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44457"/>
        <c:crosses val="autoZero"/>
        <c:auto val="1"/>
        <c:lblAlgn val="ctr"/>
        <c:lblOffset val="100"/>
        <c:noMultiLvlLbl val="0"/>
      </c:catAx>
      <c:valAx>
        <c:axId val="46444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0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90A-0BC8-4371-8EDB-3012F2C8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DF4-5634-44FC-AD78-091616E6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331-C099-46F5-8D12-17BE6EAE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F37-9F8A-46EE-974C-C2F32D3B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39F-93A7-4C80-9E8D-ABC902E7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377-B74E-4C61-934D-56ACD389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149D-649B-4105-B823-934F6A99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1B5-04D3-40A6-9C20-B74EA760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C8E-9343-49FD-9C72-78951D6A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0E3-D1FC-4A85-AA1F-EAE1F974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9945-0773-4784-847E-A07D7D45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318-A71B-49F7-A4ED-EDACF16A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9B195-9823-460B-9459-C2D24A0EDB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