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74898"/>
        <c:axId val="89994504"/>
      </c:barChart>
      <c:catAx>
        <c:axId val="78774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94504"/>
        <c:crosses val="autoZero"/>
        <c:auto val="1"/>
        <c:lblAlgn val="ctr"/>
        <c:lblOffset val="100"/>
        <c:noMultiLvlLbl val="0"/>
      </c:catAx>
      <c:valAx>
        <c:axId val="89994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74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81E-2D1F-4D38-9506-4271955D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DDD0-DC4A-4233-BE00-EDB71B12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618-6DDA-4FD6-9B0B-4D04B361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A4F-494E-4019-831A-4F4C884F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6B3-CA04-403A-BEC2-28BDBF37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0C3-2EF4-41D4-BDDA-B7F3A3AB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4F3-8595-4311-BC37-42A2C536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D07-55D2-4723-9017-48C4A8CD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FD41-BE37-4AEF-98E1-E83209AC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AE9-BE1F-4254-BB3D-22C3AE3E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7A6-5D0D-4B26-930B-13251230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81B-F6D6-49BC-8174-0B85D62D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16A23-BEB4-4A28-97E1-39064E0298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