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15938"/>
        <c:axId val="42553996"/>
      </c:barChart>
      <c:catAx>
        <c:axId val="28215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53996"/>
        <c:crosses val="autoZero"/>
        <c:auto val="1"/>
        <c:lblAlgn val="ctr"/>
        <c:lblOffset val="100"/>
        <c:noMultiLvlLbl val="0"/>
      </c:catAx>
      <c:valAx>
        <c:axId val="42553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5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065-782A-4073-BD42-68C5BCA7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A2A-9B90-4758-85FA-EDA6EFDB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BED-7376-4B7A-A09D-BC3040E5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7A3-F125-4EAA-9C5B-4E6C8B41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1F5-ADFF-4996-80E2-D4E9BC8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975-3D8E-4201-B6C0-269D8069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D0B-B6A1-416A-B48B-2943083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E08-2450-44D9-86EB-2717F19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ABA-B942-40F6-A90A-7CAC81B9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0C0-63F5-4C3B-8EDF-31F48EF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956-361C-4E0B-B45C-37AE49F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FF2-0B94-445D-8392-AED3B74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95D9B-7935-4442-BB31-997D64E0B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