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105639"/>
        <c:axId val="59851222"/>
      </c:barChart>
      <c:catAx>
        <c:axId val="711056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51222"/>
        <c:crosses val="autoZero"/>
        <c:auto val="1"/>
        <c:lblAlgn val="ctr"/>
        <c:lblOffset val="100"/>
        <c:noMultiLvlLbl val="0"/>
      </c:catAx>
      <c:valAx>
        <c:axId val="598512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056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E5E4-183E-4FAE-8A85-B3CE2251C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51BC-6670-4203-A786-DFFBBD19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C2F3-F1CA-4DFE-8B52-CCF6F14FC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E87E-B842-4835-935F-7E45F762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2884-17DA-4423-A8C4-B38E9429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8361-67E6-4716-8FFC-06DFEA10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E725-FB09-4B3E-AA8D-887E500F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A383-D775-4D52-BA82-5FCA7E7E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73D2-F95A-4BEF-B34E-81AEB8CC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0FFF-E7D9-4293-868A-7360B9D4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E855-3D4A-4B83-ADD3-7280F711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B13C-3220-4802-AD2E-A1107389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2C264-8BA5-4E33-AC4B-4106CB886C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