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64902"/>
        <c:axId val="95779138"/>
      </c:barChart>
      <c:catAx>
        <c:axId val="284649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779138"/>
        <c:crosses val="autoZero"/>
        <c:auto val="1"/>
        <c:lblAlgn val="ctr"/>
        <c:lblOffset val="100"/>
        <c:noMultiLvlLbl val="0"/>
      </c:catAx>
      <c:valAx>
        <c:axId val="95779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649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640C-736A-4563-A36D-8938CFB7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7A7A-46C9-43CC-B4F0-7B6BA0F1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20A-6282-40CB-B5F5-C337E6B3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B7C-1594-46C7-8E67-ABBFC53E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F97-3C5A-44EF-AAF5-F14BFB85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6E1-A153-4F4F-949B-7FA2B828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C71-DB82-4F52-BCB1-98FAED67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27E3-F8AA-45FE-B1F1-26D8367A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5796-F705-456B-AF3A-A6DA4A0D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519-ABC2-4893-AAB0-18D9B082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FA5-54FC-406D-8730-A4BF1A92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951-03E5-46AB-AE05-5A8DBD46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5BEA8-E370-4885-8C97-50353226F8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