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25447"/>
        <c:axId val="36432215"/>
      </c:barChart>
      <c:catAx>
        <c:axId val="92025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32215"/>
        <c:crosses val="autoZero"/>
        <c:auto val="1"/>
        <c:lblAlgn val="ctr"/>
        <c:lblOffset val="100"/>
        <c:noMultiLvlLbl val="0"/>
      </c:catAx>
      <c:valAx>
        <c:axId val="36432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25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AB8-CAE0-4CE1-9FE1-821CE839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FFE-A423-4ED3-BECC-842CD3BD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B98-57C5-4ACD-AA23-F90E9381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A31-3A74-48B7-8C94-0A1DEE8D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343-C833-499D-B694-64DB9B61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D39-657F-4011-A0F4-2F2806E2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AE5-0054-4259-8F2A-BB640D80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D65-5181-4EC3-8433-F0DA0C9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D75-6EDB-4675-9A6E-8217079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47E-E21D-469C-8C22-4210708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707-4194-467D-A6D9-3B9FF16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70E-1B78-42B6-94C1-CBB0F65C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F0E81-9A0E-4B1F-986C-40A2310CB5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