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34028"/>
        <c:axId val="9125547"/>
      </c:barChart>
      <c:catAx>
        <c:axId val="658340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547"/>
        <c:crosses val="autoZero"/>
        <c:auto val="1"/>
        <c:lblAlgn val="ctr"/>
        <c:lblOffset val="100"/>
        <c:noMultiLvlLbl val="0"/>
      </c:catAx>
      <c:valAx>
        <c:axId val="9125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40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863-2C95-4BCB-8EFA-0EE37DC0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195-DBFF-4624-8859-60D61BB8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E32-06B8-4474-A31C-00A811E5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A5D-BAFA-424F-B2F8-247D7661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B27-4C9B-44F2-8CF2-7DC5CA58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008-E142-4661-A4DD-AE2BC131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912-1292-4436-A1DB-B85CA8B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307-7511-4219-9BC6-67CFC0F4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CB4-32AD-41C0-B321-C131642E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DC4-F4E9-48CB-9FA7-0E58B90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BF4-C2F7-4841-ABB8-2127B2F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F36-F237-414B-84E9-DFD2ABB9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FDE1E-219A-425F-92AC-50D940C4EC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