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01252"/>
        <c:axId val="20208796"/>
      </c:barChart>
      <c:catAx>
        <c:axId val="74801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8796"/>
        <c:crosses val="autoZero"/>
        <c:auto val="1"/>
        <c:lblAlgn val="ctr"/>
        <c:lblOffset val="100"/>
        <c:noMultiLvlLbl val="0"/>
      </c:catAx>
      <c:valAx>
        <c:axId val="20208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1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1D2-5C01-4104-AD52-5783E658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16E-160F-45C7-B303-54B06E8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B4E-6C2C-4CE7-BFAA-126821EA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D5E-7EA2-4E1A-92BB-1264795B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40D-516C-444B-8336-27EDD32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B88-03D4-40E4-97ED-0A96013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F3F-8AC2-42BD-B3F7-7036200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3DE-6C28-48F7-8CFD-9902770F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BC2-17B7-4487-B2E2-5411ECB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C6E-3121-478F-98D8-E750A58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C07-07CB-4532-88A0-C0612B1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31F-122F-4368-BFC8-F22B041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A94EF-3081-4765-AB99-FE532D1DD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