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435912"/>
        <c:axId val="11581113"/>
      </c:barChart>
      <c:catAx>
        <c:axId val="674359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581113"/>
        <c:crosses val="autoZero"/>
        <c:auto val="1"/>
        <c:lblAlgn val="ctr"/>
        <c:lblOffset val="100"/>
        <c:noMultiLvlLbl val="0"/>
      </c:catAx>
      <c:valAx>
        <c:axId val="115811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4359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7DE0-BF41-4BCB-950B-E05114F16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CA74-9D0A-4608-9616-1CC2BB73A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C43D-BCC5-46D9-9E5E-BE7E3D97E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13F9-352D-4FC4-8FB1-C1019AA9F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1CD7-5AAA-4262-9A5C-FF60D5459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5E5B-EB2D-44BB-9E77-04DB87CEE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3A3C-EB8F-4069-9909-621C4CD70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89CF-D1C1-46D9-B2B9-137504CF1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A4E7-403D-41D5-830C-0C9B7B588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0429-800D-4FE3-AD09-1F1EFF929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B1D1-00C7-45DD-8218-DD71245BB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A226-A667-49A3-9506-DA6E46CF1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C73200-D810-466B-A2BE-0D812B81657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