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1221"/>
        <c:axId val="27481353"/>
      </c:barChart>
      <c:catAx>
        <c:axId val="7301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81353"/>
        <c:crosses val="autoZero"/>
        <c:auto val="1"/>
        <c:lblAlgn val="ctr"/>
        <c:lblOffset val="100"/>
        <c:noMultiLvlLbl val="0"/>
      </c:catAx>
      <c:valAx>
        <c:axId val="27481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1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935-CF3A-4E49-AB50-9BF36D02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7AD-A89E-4A26-BA3E-5729D614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DFD-8140-406D-B24C-201EB24F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C3F-42FA-49AE-A3DB-53D1B537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5BC-0781-43A6-A4F7-BE2306EC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FC0-9432-45BB-8654-A9679A7B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9D6-952D-4E5E-95B8-342989B4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406-8240-4676-985A-0EFBBA9E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1B7-1416-4884-A304-E917CDB7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828-D7FE-4912-8989-14B58741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F0CD-A1D8-4650-9725-DE8D7E3F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5DF-A652-4711-8079-0B8C0179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A8497-CEE9-44A9-873D-D961480BAF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