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55376"/>
        <c:axId val="43103302"/>
      </c:barChart>
      <c:catAx>
        <c:axId val="59555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03302"/>
        <c:crosses val="autoZero"/>
        <c:auto val="1"/>
        <c:lblAlgn val="ctr"/>
        <c:lblOffset val="100"/>
        <c:noMultiLvlLbl val="0"/>
      </c:catAx>
      <c:valAx>
        <c:axId val="43103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55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5DE-9A37-40FD-BB35-2797E5BD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D84-6EA5-40D5-AF7D-A7B77D22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690-D50D-43D9-8EC6-C04FB294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440-8FAF-4BD0-961F-8CDCADE1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F0B-239A-43AD-92AE-4AF4B4C7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BBE-3589-4667-B30D-1D43CA86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766-6648-4A87-93A4-6FEBD6EE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3EB-62C2-46EA-A070-B47271B7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F0A-936A-44CC-9AF0-8C3FAB8D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77C-6626-44D2-8872-630A162B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6ED-83D8-4FD1-B0C6-A6994C1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F59-7A86-4EA3-88D6-1D2AF4AA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4CB61-93BE-4CCD-AF32-72568AFEBD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