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47954"/>
        <c:axId val="21828768"/>
      </c:barChart>
      <c:catAx>
        <c:axId val="56747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28768"/>
        <c:crosses val="autoZero"/>
        <c:auto val="1"/>
        <c:lblAlgn val="ctr"/>
        <c:lblOffset val="100"/>
        <c:noMultiLvlLbl val="0"/>
      </c:catAx>
      <c:valAx>
        <c:axId val="21828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47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3A8-B800-4F69-812D-F948E849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C8E-7CE2-472C-AD00-ABC2B123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00F-3291-44E8-9433-D2A93D51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D5A-6EB4-4AFE-81F3-D3DF4B81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7C3-06B8-44B1-A475-039FA22E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DAD-C306-4158-9AEB-11470AA3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91C-815C-435B-BE42-4B68F3CB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358-E47F-4989-ACC6-DE3514FC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DC1-657F-4F7B-883D-C796089A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C4A-3498-4949-9012-468ABF50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966-45D9-4205-91AF-315C3A56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BA7-3293-4484-B07C-460928E4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04759-5274-4B1E-A10D-02913F3D29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