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754452"/>
        <c:axId val="46047649"/>
      </c:barChart>
      <c:catAx>
        <c:axId val="687544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47649"/>
        <c:crosses val="autoZero"/>
        <c:auto val="1"/>
        <c:lblAlgn val="ctr"/>
        <c:lblOffset val="100"/>
        <c:noMultiLvlLbl val="0"/>
      </c:catAx>
      <c:valAx>
        <c:axId val="460476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544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4DBC-0CCA-4D68-A951-3CE1FA34C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AD74-0106-47E8-82AF-9B2704D7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6C07-4D88-4AC7-8DA2-0AF4504A3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E128-BF05-412F-9274-BC309B014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AD36-455D-4D96-A1AA-7ADB17CF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B8E6-4968-450C-BF15-EB999F65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9A2C-4F37-428F-A262-AF83AE4F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A40E-C9A2-447C-BC87-7521279C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2606-3D9E-4261-982E-19E312C2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70D3-86B7-4424-9279-E3A0669B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69D2-1FFE-4291-8449-5F81AF8F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76A7-0333-4F29-B677-003E8187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F22C9F-DBEB-4B4F-AA4B-27EE2D7D5B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