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22294"/>
        <c:axId val="4544773"/>
      </c:barChart>
      <c:catAx>
        <c:axId val="92322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4773"/>
        <c:crosses val="autoZero"/>
        <c:auto val="1"/>
        <c:lblAlgn val="ctr"/>
        <c:lblOffset val="100"/>
        <c:noMultiLvlLbl val="0"/>
      </c:catAx>
      <c:valAx>
        <c:axId val="4544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22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82A-3118-4409-8EBA-15759BA9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D7E-F6D6-4B78-90B6-A427C6C8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9E6-2173-4337-AE72-1BAAF033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331-C589-4039-8562-3B9E0CDF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914-4A23-454E-86C3-737C6A2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C3C-5980-446D-85FD-9CACC501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F0D-D4BE-4FD8-89F0-8132402E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C28-4039-4AE2-B6C0-C45300E3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D35-F19B-4936-8A69-682EBD97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B62-FC7B-4E1F-B06C-21E0815D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DCD-D326-4599-A826-EC8E9B7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CF5-C326-4872-A95F-4A47749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17841-F673-4090-A345-FE7B7828B3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