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9950936"/>
        <c:axId val="47227039"/>
      </c:barChart>
      <c:catAx>
        <c:axId val="6995093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227039"/>
        <c:crosses val="autoZero"/>
        <c:auto val="1"/>
        <c:lblAlgn val="ctr"/>
        <c:lblOffset val="100"/>
        <c:noMultiLvlLbl val="0"/>
      </c:catAx>
      <c:valAx>
        <c:axId val="4722703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95093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63FA6-38E3-4C89-A048-B5D9811BD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A8492-B53A-49EE-92C9-AA112A6B7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03061-921C-4058-84D3-16AFB2A89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382FD-509F-4086-8C31-5FCC8AADC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BC275-E3A3-4C58-B7C7-33A46706B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5DDCB-8B67-4B30-B762-8842C07A6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49789-A40A-46C5-81A7-DFC1D8243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52756-131A-490A-9B68-8A7B66B28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2C57D-1C92-4EC8-A2BA-F0668AA64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5C86F-F0A9-48CE-AFF1-A2749D6DE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2FE48-E60D-4927-B123-C34B1D53A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A4903-FA82-4B3D-8B6B-227F20212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146BD3-31FC-445C-A460-E2CA503D620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