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270585"/>
        <c:axId val="81769781"/>
      </c:barChart>
      <c:catAx>
        <c:axId val="722705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769781"/>
        <c:crosses val="autoZero"/>
        <c:auto val="1"/>
        <c:lblAlgn val="ctr"/>
        <c:lblOffset val="100"/>
        <c:noMultiLvlLbl val="0"/>
      </c:catAx>
      <c:valAx>
        <c:axId val="817697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2705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2E9D-D7F7-4DD2-AC05-7B00EB490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FA5C-A4E7-453C-91E3-60891C026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8315-24D6-40EE-ACB9-8CEB62B8B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4B06-6226-4241-BA4C-A161DCC71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20BE-4BDD-4AD3-BB53-181F592AF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3482-1A23-49AB-8E81-A2BF652F3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D953-CE14-452B-86EB-EAE154D41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4298-8301-4C5F-9097-615788643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E0E8-53DA-40D1-B39F-A1AAAE418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D6A5-5B72-4E2F-902A-55B59097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3FDF-71CA-436F-BC26-B8E3BF6A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D5D1-0FD6-4EA2-8879-DEC0511A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463958-C6BF-42E6-B952-910F15E5CD6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