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37691"/>
        <c:axId val="82186734"/>
      </c:barChart>
      <c:catAx>
        <c:axId val="66237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6734"/>
        <c:crosses val="autoZero"/>
        <c:auto val="1"/>
        <c:lblAlgn val="ctr"/>
        <c:lblOffset val="100"/>
        <c:noMultiLvlLbl val="0"/>
      </c:catAx>
      <c:valAx>
        <c:axId val="82186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7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F60-DD24-48DF-A6F8-A9FE3A6A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65D-ADB3-42AB-8393-D792078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D6B-2A97-48FE-82E2-35B5F817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6D0-CA16-45FF-B1E0-14B0D98F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D91-8A41-4296-85E6-6AED7F9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E32-0EDA-4BA0-BB06-4264716D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F1B-7192-41F4-8FBF-2A009ED0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6B4-EDCF-4415-9FA3-87984ED7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06D-BC6D-4859-B52B-CFA98EC3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96F-BB8E-46A2-A0EC-AA06D97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86F-DFAB-4E79-B539-5E4717C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048-6DE5-4272-9FDE-5E0458C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D81CF-88CC-4D34-8386-2AA760810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