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33021"/>
        <c:axId val="96493343"/>
      </c:barChart>
      <c:catAx>
        <c:axId val="67330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93343"/>
        <c:crosses val="autoZero"/>
        <c:auto val="1"/>
        <c:lblAlgn val="ctr"/>
        <c:lblOffset val="100"/>
        <c:noMultiLvlLbl val="0"/>
      </c:catAx>
      <c:valAx>
        <c:axId val="964933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30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9EA1-E579-478F-87CF-A81F5EB9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9A13-FF34-403F-8E02-39FB8A2D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37C5-A865-4302-9B91-5E7DD72B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706E-C10E-45DA-A308-177BB89C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9C04-61F8-4DCB-8229-3DF05B89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2667-7348-475C-9FD0-58100042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EABF-DA39-4020-9100-87EC2B5A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8BDD-D904-4DAF-8A76-43E330C2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F9FC-7888-4934-A220-650F14C5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4A23-F6A8-4D2C-A7EC-B3A73C55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43B3-F686-43AF-8899-7D289379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DFDD-8D59-419E-9907-21D458E1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CD2CE-08D6-452B-900E-D3D38C780A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