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82404"/>
        <c:axId val="69445356"/>
      </c:barChart>
      <c:catAx>
        <c:axId val="62682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45356"/>
        <c:crosses val="autoZero"/>
        <c:auto val="1"/>
        <c:lblAlgn val="ctr"/>
        <c:lblOffset val="100"/>
        <c:noMultiLvlLbl val="0"/>
      </c:catAx>
      <c:valAx>
        <c:axId val="69445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2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320-6809-4CBA-A868-73509234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108-2404-4326-9B22-AFA50C5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C17-3666-46FC-9CA4-35CA0E94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0E4-36BE-41FE-A626-30E50279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865-AE64-4BB1-8A45-AA741500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4DE-9CBD-426B-A6A9-711BE744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63B-95AA-41BB-993E-F0B4CEEB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F9C-8A5A-472A-8A25-C05DF3BA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2D7-110A-4BB2-A983-5444F151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F628-AED4-4B1C-A6A8-FE6D4D91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D437-535A-440C-B2A3-25082B9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462-35D3-4E41-9BCF-1852D4A3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9BDFC-64B8-46FF-8A82-43044C515B2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