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63387"/>
        <c:axId val="55233796"/>
      </c:barChart>
      <c:catAx>
        <c:axId val="41363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33796"/>
        <c:crosses val="autoZero"/>
        <c:auto val="1"/>
        <c:lblAlgn val="ctr"/>
        <c:lblOffset val="100"/>
        <c:noMultiLvlLbl val="0"/>
      </c:catAx>
      <c:valAx>
        <c:axId val="55233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63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60F-72BA-4044-AD86-DCC93EF4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62C-CE1D-4BBA-8698-24348B68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6C8-AAF5-4D33-B168-D1CDB01A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9BC-AA57-4D61-AC11-6C6303F6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FD56-48FE-432E-8080-843B31F1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D0D-5A58-4301-9D6E-88AE35CB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CE1-CFBE-450B-A398-99405B31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F78-9981-4431-878D-03ECE6AF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3A6-97A3-4C31-868A-A07941F1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29F-25CE-46A6-8E6B-DF210F0B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AE2-20BD-40BC-8AF9-B00BDBA4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544-F35B-4B89-B74C-91710AFD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2FEF5-CF45-42E1-A6DE-6266AB24BF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