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866449"/>
        <c:axId val="87782100"/>
      </c:barChart>
      <c:catAx>
        <c:axId val="878664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782100"/>
        <c:crosses val="autoZero"/>
        <c:auto val="1"/>
        <c:lblAlgn val="ctr"/>
        <c:lblOffset val="100"/>
        <c:noMultiLvlLbl val="0"/>
      </c:catAx>
      <c:valAx>
        <c:axId val="877821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8664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9542-3792-41C5-9128-6684D6819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8406-FBE7-445D-8004-93621BD95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BC93-66F3-4EC9-B328-BFBEE6DA5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2EFC-6C98-4DDD-8C2B-061997FAE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FFF9-4DB9-4AB2-867B-EE96F5822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ED97-E93C-4D07-B576-5464B59B0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FE1E-8515-4C09-8B9A-4FECE9CD8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5E17-7A17-4422-A5FC-4D2D70E9E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FFF3-8535-4F1D-AB50-A0A345F91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6B39-F767-43B7-B418-69FB8D3F8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878D-840F-4B8B-AA0F-8D576F7E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DA36-77B6-45E9-997A-CDD855CF2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2171CE-B65B-4A74-BBC3-BBE34A7E26B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