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50391"/>
        <c:axId val="88984231"/>
      </c:barChart>
      <c:catAx>
        <c:axId val="66550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84231"/>
        <c:crosses val="autoZero"/>
        <c:auto val="1"/>
        <c:lblAlgn val="ctr"/>
        <c:lblOffset val="100"/>
        <c:noMultiLvlLbl val="0"/>
      </c:catAx>
      <c:valAx>
        <c:axId val="88984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50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12B-08E2-4C78-9CDF-7EB90823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B5C-5CB3-4A87-B3E2-343A6986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F1A-255F-4144-ADA5-AC74DB77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CBC-EAA6-4EFC-BA92-AA89B0E2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BDE-F477-460A-B920-4E8E81E9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5CB-1637-4B02-8354-3FA2C845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335-112A-4F64-884E-B100AA3B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C9A-B878-4B98-B03C-BF4E15DF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BC9-DF87-4204-9E90-7A164541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C0B-D6DF-481B-8D61-961667F8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E57-290C-43C0-BEEC-66BC2AAF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1CE-FDC6-44A6-9F6E-42E33B32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D2A27-F52C-45A3-BAA9-CED92B669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