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132132"/>
        <c:axId val="6363732"/>
      </c:barChart>
      <c:catAx>
        <c:axId val="551321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63732"/>
        <c:crosses val="autoZero"/>
        <c:auto val="1"/>
        <c:lblAlgn val="ctr"/>
        <c:lblOffset val="100"/>
        <c:noMultiLvlLbl val="0"/>
      </c:catAx>
      <c:valAx>
        <c:axId val="63637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1321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B9BD-0B09-452D-BF05-2B119E79F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C43B-D876-4133-96E8-9E11A8449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DF21-DDE0-4BAC-B1F1-77EC25956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91DA-C885-437D-909E-F890BF0EB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7EF0-C286-4C7A-85E9-7420E64ED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ECD1-B7C1-4526-853E-4692044DF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9991-16EE-48E1-AB43-5FD89940D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114E-DF0A-4527-9371-33784C36D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CA95-7B25-4261-9E37-285E648DF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45A4-0518-45BD-A274-E5A35342F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2E0F-0CB4-4F8C-A9B5-15A8D76B4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A372-3FF9-45EC-A9AF-BED3756AA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2A21AA-7492-41E4-ADEC-77ED2FEA91C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