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747654"/>
        <c:axId val="22719730"/>
      </c:barChart>
      <c:catAx>
        <c:axId val="837476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19730"/>
        <c:crosses val="autoZero"/>
        <c:auto val="1"/>
        <c:lblAlgn val="ctr"/>
        <c:lblOffset val="100"/>
        <c:noMultiLvlLbl val="0"/>
      </c:catAx>
      <c:valAx>
        <c:axId val="227197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476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4C59-E7D5-4DC4-8C63-8860E19A3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9D9B-128A-44B1-A00A-D28721D1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3507-9832-48AF-B9DF-0A0C70041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2FA8-93AD-4FD8-ADE5-58D4F3B23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896A-82A3-48FE-A016-70918C30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3923-2D73-4CE9-A61D-E4D94E5D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82FC-87CC-476F-A142-1A461337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7462-AF8D-4932-99AF-7D95E3F0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76DA-5D96-4541-B030-B641C213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C5D4-160E-41E3-8011-98512AA4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5845-87C8-42FD-AC97-23B8963F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7D33-E873-4169-99C3-E898551A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B226D3-BA48-4767-B7E0-8D60ECAA1B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