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63893"/>
        <c:axId val="34425136"/>
      </c:barChart>
      <c:catAx>
        <c:axId val="11463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25136"/>
        <c:crosses val="autoZero"/>
        <c:auto val="1"/>
        <c:lblAlgn val="ctr"/>
        <c:lblOffset val="100"/>
        <c:noMultiLvlLbl val="0"/>
      </c:catAx>
      <c:valAx>
        <c:axId val="34425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63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FB1-606E-46C9-B54C-B3738AF6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893-1AA2-4016-8280-3AD5419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99F-C329-41CC-B69B-624A3B9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44-13D1-458A-BC8D-A992B791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35E-7F03-43F6-8E86-3D137C9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185-0796-481C-9450-4A96B6A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635-EAEF-4950-B084-13F40F76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D19-0284-4971-8CD9-61749F3F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E47-F083-4ED0-9549-0DD693E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A85-F7CF-4BC2-8067-F69B09D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4D6-04D5-46C4-9EA0-670F1CE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9BA-800A-4707-8CBF-3E7A023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D1CED-FDE5-4FDA-AF87-0E9815AD7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