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38910"/>
        <c:axId val="80246586"/>
      </c:barChart>
      <c:catAx>
        <c:axId val="10638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6586"/>
        <c:crosses val="autoZero"/>
        <c:auto val="1"/>
        <c:lblAlgn val="ctr"/>
        <c:lblOffset val="100"/>
        <c:noMultiLvlLbl val="0"/>
      </c:catAx>
      <c:valAx>
        <c:axId val="8024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38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41-AFE6-42E2-A7CB-F6ABD11E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FEB-02DE-4B63-98B8-2596C39C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BFD-8C5A-4DC1-8D2F-78365EF9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1B5-C135-40CD-9FD2-1A61B3C7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D4B-DDA0-4597-A6EF-0A29BC1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ED2-CDA0-41CF-86E3-D9F9F65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B15-2AF5-4E53-8219-D2D7A30D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5C7-3C6B-4FCF-B529-4BE7328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C36-B1CE-4083-95B9-965DE418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698-691C-4275-987B-1E21DE3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10A-7A1A-404F-9603-04A4067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458-EFD2-43A6-ADE0-90614FF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ECD81-BA77-4CF2-8E52-969ECA7073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