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22011"/>
        <c:axId val="32165306"/>
      </c:barChart>
      <c:catAx>
        <c:axId val="89222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65306"/>
        <c:crosses val="autoZero"/>
        <c:auto val="1"/>
        <c:lblAlgn val="ctr"/>
        <c:lblOffset val="100"/>
        <c:noMultiLvlLbl val="0"/>
      </c:catAx>
      <c:valAx>
        <c:axId val="3216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2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28C-0D4E-4133-B8D5-78FE590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0D5-B379-4624-BEAE-7B62654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CE2-D559-4748-9279-CEBD8EAD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E2A-732C-4682-BFD2-9F952DEA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B12-99AC-4CAC-9B16-B451D882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239-939B-49E7-92F9-953D8C1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30C-6B27-4BCB-B9D0-85254FA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AD5-D412-4108-B628-3FC4B265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19C-E7B6-4A78-9CD8-511C5F20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CCC1-24FF-44EE-B710-F8F153DC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B4C-794E-45F0-8482-C42FDE4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088-69B7-4811-803D-F1E85AF5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DC4E0-EB55-40AE-A0FB-F03009D66F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