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00504"/>
        <c:axId val="87909656"/>
      </c:barChart>
      <c:catAx>
        <c:axId val="55200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09656"/>
        <c:crosses val="autoZero"/>
        <c:auto val="1"/>
        <c:lblAlgn val="ctr"/>
        <c:lblOffset val="100"/>
        <c:noMultiLvlLbl val="0"/>
      </c:catAx>
      <c:valAx>
        <c:axId val="87909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0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693-1D08-42ED-9C98-675E7A8C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63B-A069-4963-8486-1FD7253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067-E805-41CD-94B1-0103617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096-5820-459E-987A-5EF24312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A2D-1ED6-4416-BB0E-C7259B8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D8F-118C-48A7-B36B-E7CF7D8B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18C-5642-49EE-ABED-EAA2C7B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DD3-E54C-4E6F-8907-D57D8195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0E3-78D8-4FE7-A2EA-4EB935EA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022-89EE-4030-997A-67582D6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BF9-6351-4E2C-ABF2-F238B26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F44-D60C-46B3-9B58-D19A223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7C1C4-66CD-427F-ADE0-397CBEC61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