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38350"/>
        <c:axId val="78274733"/>
      </c:barChart>
      <c:catAx>
        <c:axId val="80938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74733"/>
        <c:crosses val="autoZero"/>
        <c:auto val="1"/>
        <c:lblAlgn val="ctr"/>
        <c:lblOffset val="100"/>
        <c:noMultiLvlLbl val="0"/>
      </c:catAx>
      <c:valAx>
        <c:axId val="78274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38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3DD-F6F4-4481-B137-B466CB65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1D1-A17C-4E72-8624-2CE65EDF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E4F-BF03-4C03-9AB3-448039FF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00A-0BF2-45F0-B1C9-63C493F9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164-53CA-403F-B4B9-4520FB7B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A97-4CEE-4671-B05D-9A9022EE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DF1-288B-48B8-B13E-852B058A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CCF-43AF-451C-9CE8-428312D6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500-2867-4CDD-90AC-6B7397DB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9B1-109B-4D5A-ADE7-A7D9715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9F8-D90D-43E8-A815-C3AF3695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631-C363-49B5-A77D-810C08C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D3289-B896-43BD-A633-3A247CEEDB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