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339415"/>
        <c:axId val="55499556"/>
      </c:barChart>
      <c:catAx>
        <c:axId val="963394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99556"/>
        <c:crosses val="autoZero"/>
        <c:auto val="1"/>
        <c:lblAlgn val="ctr"/>
        <c:lblOffset val="100"/>
        <c:noMultiLvlLbl val="0"/>
      </c:catAx>
      <c:valAx>
        <c:axId val="554995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394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1CF2-10B5-41C5-8D7B-DEA3DA3E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6E06-D1B7-4C97-9D67-9BDBAA4C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18DA-715F-4A97-AA25-97B92C1F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9AC2-762B-4DC9-AEB1-C23D8164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C8EE-15F4-4CC5-9456-96F7C671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96BC-6AB7-4C73-8DDB-1C5D1985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27A3-3AAC-4CB0-847D-69F8D7A5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350A-8F8D-4D0E-A493-CD4CB750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FCA9-91A2-4D4D-8690-A261CF60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1FDB-3107-4094-9C5F-52E57D63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7E1C-6045-4E79-8192-A3C37077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A5C1-9BC1-4095-BDCF-62CC92E6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B9FCA-7CA6-438D-B86C-F0F3A66B3B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