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0889"/>
        <c:axId val="6315977"/>
      </c:barChart>
      <c:catAx>
        <c:axId val="6220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977"/>
        <c:crosses val="autoZero"/>
        <c:auto val="1"/>
        <c:lblAlgn val="ctr"/>
        <c:lblOffset val="100"/>
        <c:noMultiLvlLbl val="0"/>
      </c:catAx>
      <c:valAx>
        <c:axId val="6315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0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3C2-8BC8-49D4-85E7-27147AFE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0B9-FEEE-4B88-8974-07ABEAF3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EF5-AFF2-491E-BFB1-6AB7D4CE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F20-E4A9-4349-BD05-5708169B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148-9799-4DBF-B958-67D43391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722-5368-4006-B31D-C4A45EB4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401-EB2B-4041-85AA-648F0EA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F2E-0B6E-49B7-84E7-1B12C45E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0E0-FDB3-4980-9D06-1A08195B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9F7-00F0-4C80-A27F-C687FF32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89C-7491-4525-A979-93EDF3AE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0D6-E43C-476E-BBDA-C38128F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AD58A-7FD5-4E81-BF93-2EF0EE5EDA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