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11373"/>
        <c:axId val="48097545"/>
      </c:barChart>
      <c:catAx>
        <c:axId val="96411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7545"/>
        <c:crosses val="autoZero"/>
        <c:auto val="1"/>
        <c:lblAlgn val="ctr"/>
        <c:lblOffset val="100"/>
        <c:noMultiLvlLbl val="0"/>
      </c:catAx>
      <c:valAx>
        <c:axId val="48097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1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EC1-1F38-4888-BF85-C795F274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2B2-C2A1-44FC-AF36-AD079421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D56-2E76-49BC-8FFF-BEB1F44C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64D-4B2A-4F53-8FB4-65CCD1F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2B1-6CB4-4AA1-97DC-D24D238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875-35A9-46B8-A844-55A5385A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8EE-755E-49F9-A0DE-EC5D4DD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766-E6E6-4955-BAB0-39F0A7D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216-94E2-415B-9A6B-7BFA6EF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DA9-D723-4572-A124-B61CDFA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71A-985E-4970-A7CF-C03DAFA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A46-A4D0-45CB-8F26-9850587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3412D-CEF8-4A4C-ADAA-7D96ED7E0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