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81847"/>
        <c:axId val="58407817"/>
      </c:barChart>
      <c:catAx>
        <c:axId val="88981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7817"/>
        <c:crosses val="autoZero"/>
        <c:auto val="1"/>
        <c:lblAlgn val="ctr"/>
        <c:lblOffset val="100"/>
        <c:noMultiLvlLbl val="0"/>
      </c:catAx>
      <c:valAx>
        <c:axId val="58407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81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3E6-51BD-4AD4-B50B-D9858E2E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04B-19CA-4FEF-AC9D-3DDE5DE3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1E8-7D8D-4DA7-B2F0-FA651DEF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DEC-B3BB-43E7-8690-7A4C1C28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D26-A37A-4B51-A957-1915AAE1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E94-9B71-489D-BF67-4BC0D4F0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199-4188-44DA-AB5F-74CD8D4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376-F9D3-463B-AB0F-30512099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7C5-33EC-4AE1-B842-D151F6BF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C05-402B-4656-8A74-A3CCF90E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7A9-2C96-4DB3-9081-2276E8A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C33-2D53-4897-99CB-EB1436D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9994D-0B2D-47A8-B4A1-E2BACE3E81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