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39495"/>
        <c:axId val="86075512"/>
      </c:barChart>
      <c:catAx>
        <c:axId val="71239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75512"/>
        <c:crosses val="autoZero"/>
        <c:auto val="1"/>
        <c:lblAlgn val="ctr"/>
        <c:lblOffset val="100"/>
        <c:noMultiLvlLbl val="0"/>
      </c:catAx>
      <c:valAx>
        <c:axId val="86075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39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8C6-B1FF-4D6F-ADF8-3104FEAB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3A0-6F00-4844-BC18-D5378E38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C894-137C-4A4D-BA66-451FB83A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DC2-1DF8-4DF5-B52E-3015E773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FDC-655A-4193-9211-B455A066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824-E5D3-4172-84AE-DC7E2324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CA9-B3FC-48A6-9ECD-CD80CC5C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9E1-2BF5-48AA-BF37-E4431094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ED5-4DA2-48F6-955A-3AADCE1A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14E-6F47-49F0-83C8-FCD2134E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EB0-79E5-4FB7-97AF-1EC1789C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2EF-75A3-4026-B3C7-E2A1A45C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73E31-7E96-47D2-9175-1937C14CE1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