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903422"/>
        <c:axId val="91549105"/>
      </c:barChart>
      <c:catAx>
        <c:axId val="3490342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549105"/>
        <c:crosses val="autoZero"/>
        <c:auto val="1"/>
        <c:lblAlgn val="ctr"/>
        <c:lblOffset val="100"/>
        <c:noMultiLvlLbl val="0"/>
      </c:catAx>
      <c:valAx>
        <c:axId val="9154910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90342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00F3-F792-4DB2-BC87-B316E89BD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E20A-38CA-4F48-B17F-6FE8574EF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F7CE0-1C15-4C2F-8549-DE92A9C2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65A9-469A-48FC-A994-85030C772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37777-E725-4D21-AA57-93E8CC404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55907-28B4-4362-AEC6-0FCF78B3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5F055-6533-4ABF-8242-9A8B1222D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C36B5-CAA0-44A7-93A8-C60CD2AF1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08F6-D2F9-43A6-BCAF-E9F9BD66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70DE3-1153-48F6-A71B-0CDBEA157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B693-CA92-45AB-84A5-9919CDFFDD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CB75-9C73-4763-A378-3A9E701DC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AB587-46DD-44CD-A431-93FF4290110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