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03948"/>
        <c:axId val="17432203"/>
      </c:barChart>
      <c:catAx>
        <c:axId val="232039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32203"/>
        <c:crosses val="autoZero"/>
        <c:auto val="1"/>
        <c:lblAlgn val="ctr"/>
        <c:lblOffset val="100"/>
        <c:noMultiLvlLbl val="0"/>
      </c:catAx>
      <c:valAx>
        <c:axId val="17432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039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3FC2-74B0-4029-9521-9E726A11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E162-D7BB-4652-AEEA-F93F13F9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43D7-8603-413A-8362-6FA5BF3A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823E-311F-4364-9418-1A51E5E9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B07A-3504-49FD-AE14-002D6C76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920-90FF-438C-9514-8024DBFD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D5B7-BFBD-4507-98BD-CEF400BC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2333-4C0E-4E0C-842E-49455550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FA91-30AF-4A78-B0DB-9CE79C02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867-D7F9-4418-9B38-66C9C82B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0A7E-6207-4B1C-887B-4B423CBC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5C50-72BB-4396-B352-35517871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92256-8A7D-43B6-96DF-78B6D124DE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