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62344"/>
        <c:axId val="72518937"/>
      </c:barChart>
      <c:catAx>
        <c:axId val="573623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18937"/>
        <c:crosses val="autoZero"/>
        <c:auto val="1"/>
        <c:lblAlgn val="ctr"/>
        <c:lblOffset val="100"/>
        <c:noMultiLvlLbl val="0"/>
      </c:catAx>
      <c:valAx>
        <c:axId val="72518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623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48F5-E702-44C4-A4E2-C08E6F5D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DA57-F615-467B-A9FA-FC0041AF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AFC-4028-47C6-8D2C-E27886A8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201-BCCC-402D-AF59-B7D2AF57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E73-1BF6-4BBC-9004-E7A1D5CD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0931-5E85-451D-A5C2-D264DB88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5135-171C-456E-A607-16F78719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217-0BB9-4FCF-B14D-DE9A1D9B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0EEB-9A60-410E-A1B6-4046C2DB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1EF2-ABF1-470B-984C-DC7B6239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023-1C8D-4BAA-91A6-6223B54E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A1B6-416F-4C92-9BD8-875FD17B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EE00C-F565-477A-B0C4-7BBCB26B99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