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0915390"/>
        <c:axId val="91390587"/>
      </c:barChart>
      <c:catAx>
        <c:axId val="8091539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390587"/>
        <c:crosses val="autoZero"/>
        <c:auto val="1"/>
        <c:lblAlgn val="ctr"/>
        <c:lblOffset val="100"/>
        <c:noMultiLvlLbl val="0"/>
      </c:catAx>
      <c:valAx>
        <c:axId val="9139058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91539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B6E0D-8552-474C-BAC7-748F596B3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E57EE-AAD1-4654-A7C9-1B5346248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AA528-AEEB-4DCE-BE26-E1524E63A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FB728-7B7A-471A-B75C-512EF9CC1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D1DBB-1777-4E12-BC9A-7475B980E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BDE47-6C04-4B8D-BCB6-A612DFB1C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72385-7A5F-429E-BCA7-923BE06BB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21D94-81F5-42FE-A6C1-98F3E2508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4C1E3-B76F-419A-8F22-CA992A8BD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A5A22-00CF-4A92-8DED-0C82E44B6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E3BAC-8B09-4362-A0A9-6749ADFF4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5DD22-CE33-4973-9552-48A0A6493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EFDDAD-772D-46C2-B1CD-81D11D297E6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