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7027"/>
        <c:axId val="59687359"/>
      </c:barChart>
      <c:catAx>
        <c:axId val="1217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87359"/>
        <c:crosses val="autoZero"/>
        <c:auto val="1"/>
        <c:lblAlgn val="ctr"/>
        <c:lblOffset val="100"/>
        <c:noMultiLvlLbl val="0"/>
      </c:catAx>
      <c:valAx>
        <c:axId val="59687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7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01B4-6D7C-496F-9925-0DD916FD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5E5-4816-47E1-A2C4-FF452306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ACD-AFE2-47D7-80F1-457BBE33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31E-BB61-45CF-AB4D-8FBCDEA2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E21-633B-49C0-81AD-CD758D0F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D84-875C-4262-A333-B946F830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7C9-0C68-44B1-8259-4F02D856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A48-3E58-4623-B25B-72444450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D824-2BDC-4808-89BB-1E5EC541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A5E-4831-443E-BF8C-16E6270E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B01-E27D-4396-B067-AD95BB77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0B8-77F9-4872-8D27-2325DEBD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EB1C7-E3F0-48B0-8E94-66020CC4F5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