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687418"/>
        <c:axId val="21237430"/>
      </c:barChart>
      <c:catAx>
        <c:axId val="486874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237430"/>
        <c:crosses val="autoZero"/>
        <c:auto val="1"/>
        <c:lblAlgn val="ctr"/>
        <c:lblOffset val="100"/>
        <c:noMultiLvlLbl val="0"/>
      </c:catAx>
      <c:valAx>
        <c:axId val="212374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6874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74A9-EE1D-4F10-B3ED-AC44C28BE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3B0C-B950-4009-AAE6-11F805920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E5E8-0E62-4E99-84A9-C9DB57E5A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3E74-3D3F-49FA-9BE4-76DD1B0E6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A40A-025A-4391-85DC-4D499A25A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C67C-F3DA-43D5-A0EA-5BA8B6B52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FB02-4928-4945-B05E-7B15B45C9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EEC3-DB1C-4E27-8653-3F7B313A9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42FB-B0FF-4B03-8A8A-3F36A3B27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B1FF-7186-400C-97AF-C6A29816B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B523-19B1-46C8-945B-6C15A8E74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73E1-0BC2-4C0D-A610-5D855125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DB1B68-31E4-436B-A66A-83CD9768893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