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546422"/>
        <c:axId val="49256937"/>
      </c:barChart>
      <c:catAx>
        <c:axId val="495464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256937"/>
        <c:crosses val="autoZero"/>
        <c:auto val="1"/>
        <c:lblAlgn val="ctr"/>
        <c:lblOffset val="100"/>
        <c:noMultiLvlLbl val="0"/>
      </c:catAx>
      <c:valAx>
        <c:axId val="492569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5464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7F8F-C681-4839-B106-BDC73D3FD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C72E-0DBE-4581-B510-4795A3C0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9663-6BB7-449C-A3B1-3A072707A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AAD0-68FA-4937-BBB2-646CD1C7D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019B-61FB-40FE-9EFC-395D1352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0A30-5D63-4F5C-B588-66FBB703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8B25-E7A1-43FB-9E5F-FB354E0C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B19E-7ABE-43E0-845C-5644507F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4BCC-8D15-4188-8176-0E9CC7F5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AE85-20C2-4401-BC1C-30F9C52D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6872-85F9-43BA-9AFC-32B06237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A534-85DE-4906-84D8-05BF7508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1524B-D128-440C-AA08-4912AEA99F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